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A5C5B-88C7-42FA-ACF7-37816CA0B5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6DE85-942B-4C8C-845C-9325357A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BFFBD-B924-4622-984E-DEC32CFC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D2DBC-4E8A-425B-BB8D-F3A7167A94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F2CBA-C07F-4F09-8160-335F3D2F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F7760-A7CB-4ADA-92E2-C012D06B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AFE4B-C421-48AB-AE8A-3F097165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16460-AB33-4726-A5E3-2CE4910FC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75B71-AD83-4410-9192-E57F66B8D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E9F07-1223-4E06-B0A2-DFEFD57C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B3FE0-A655-4633-A823-2716E8C6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C1794-C4C0-452B-B688-031A5970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B287-01EE-462F-8DE5-5F2AFDBE92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传统的疝修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无张力疝修补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ension-free hernioplast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镜疝修补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paroscopic inguinal herniorrhaph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和绞窄性疝的手术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7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腹股沟斜疝，在医生建议下行腹股沟斜疝修补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与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与疝块嵌顿或绞窄、手术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  缺乏腹外疝病因、预防腹内压增高及促进术后康复的有关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切口感染、阴囊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引起腹内压增高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绞窄性疝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禁食、肠胃减压，输液纠正水、电解质及酸碱平衡失调、抗感染，必要时备血，做好急症手术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棉线束带或绷带压深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壁肌肉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服用阿司匹林的患者术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停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者术前晚灌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手术室前，嘱其排空尿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腹内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阴囊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外疝可分为易复性疝、难复性疝、嵌顿性疝及绞窄性疝等类型，先天性解剖结构异常和后天性腹壁薄弱或缺损是其发病的主要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股沟疝可分为腹股沟斜疝及腹股沟直疝两种，以斜疝多见。由于疝内容物突出路径的不同，其外观、是否容易嵌顿等均不同。其中绞窄性疝为疝内容物发生循环障碍甚至坏死，病情危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婴幼儿疝可采取保守治疗方法，成年人腹股沟疝可选择手术治疗。术式可采取疝囊高位结扎术、疝修补术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应消除引起腹内压增高的因素，手术区严格备皮，做好灌肠和排尿的护理。术后预防腹内压升高，切口部位沙袋压迫，托起阴囊，预防阴囊水肿，做好切口的隔离保护。手术治疗的患者，出院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避免重体力劳动，避免生活和工作中引起腹内压增高的因素，积极治疗和预防各种导致腹内压增高的疾病，防止腹外疝的复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腹股沟斜疝、腹股沟直疝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不同类型腹股沟疝的治疗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腹股沟斜疝和直疝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腹股沟疝的发病机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腹股沟疝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外疝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bdominal external hern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腹腔内的脏器或组织连同壁腹膜，经腹壁薄弱点或孔隙，向体表突出所形成。常见腹外疝有腹股沟疝、股疝、脐疝、切口疝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7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某小区保安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前出现阵发性腹胀、腹痛，伴有恶心呕吐症状，不能正常排便。上班站立时间较长或咳嗽时，腹股沟区出现明显肿块，自述疼痛。有慢性咳嗽病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腹股沟区有一圆形肿块向外凸出，咳嗽时痛感增强，手指压迫腹股沟韧带中点上方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处，肿块不再突出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　 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斜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易复性斜疝：除腹股沟区有肿块，偶有胀痛外，并无其他明显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难复性斜疝：除胀痛稍重外，主要特点是疝块不能完全回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斜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斜疝：疝块突然增大，并伴有明显疼痛，平卧或用手推送不能使疝块回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绞窄性斜疝：临床症状多严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直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直立时，在腹股沟内侧端、耻骨结节外上方出现一半球形肿块，往往不伴有疼痛或其他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透光实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棉线束带法或绷带压深环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医用疝带的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的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3:29Z</dcterms:modified>
  <cp:revision>88</cp:revision>
  <dc:subject/>
  <dc:title>内科护理学</dc:title>
</cp:coreProperties>
</file>